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18B4-4765-4E63-9413-0A5ED79C41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3E29-424E-4ACA-9A64-343B5E12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2825-80CF-495C-A321-C316A236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DA7B-7BEB-4761-B1B4-1CF0FA6F8E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8FCB4-CE99-4DFE-8634-D7563593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10EB-CA02-47F5-9FB4-5D6AE825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804D-F587-437B-BB13-1558FF8A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7C504-2A53-4F6A-98A4-F3A211C2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01540-E37F-4CD1-816E-07CE04EC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D780-9C8B-4EDA-BD35-DCC4025B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F30B-02AC-46B4-AAFD-43AB143F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E141-80B6-4ED8-810F-A3FBB55D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0BD2-FFBD-4843-B112-44D55D0BED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iwai.net/html/Tmb/20060417160638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dtop.cn/_pages/pldd/20050330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56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04000" y="630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020000" y="587700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588000" y="54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2204640"/>
            <a:ext cx="7848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卧床休息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疼痛较剧烈时，可指导患者短时间卧床休息，一般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d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也可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McKenzie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姿势疗法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患者俯卧位躺在一呈“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V”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字形的治疗床上，或俯卧位时在胸部和小腿下垫一软枕，使腰部伸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4280"/>
            <a:ext cx="57736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腰围制动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穿戴腰围可起到加强保护的作用，还可减轻腰背肌肉劳损。腰围不应该长期使用，以免造成腰背部肌力下降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ROM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降低，从而引起肌肉失用性萎缩。腰围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穿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戴的时间一般不超过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月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7" descr="DSC00660"/>
          <p:cNvPicPr/>
          <p:nvPr/>
        </p:nvPicPr>
        <p:blipFill>
          <a:blip r:embed="rId1"/>
          <a:stretch/>
        </p:blipFill>
        <p:spPr>
          <a:xfrm>
            <a:off x="6097680" y="27115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48392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和注射疗法：急性期神经根受刺激或压迫症状明显者，可用甘露醇、激素类药物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疗法：具有促进局部血液循环，缓解局部无菌性炎症，减轻水肿和充血，缓解疼痛，解除粘连，减轻肌肉及软组织痉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1300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牵引疗法：主要适用于神经根刺激症状明显时。腰椎牵引的方式主要有自身牵引和器械牵引，多采用仰卧位骨盆对抗牵引，牵引重量通常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kg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开始，逐渐加量，最大重量不超过患者体重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7" descr="DSC00668"/>
          <p:cNvPicPr/>
          <p:nvPr/>
        </p:nvPicPr>
        <p:blipFill>
          <a:blip r:embed="rId1"/>
          <a:stretch/>
        </p:blipFill>
        <p:spPr>
          <a:xfrm>
            <a:off x="4932360" y="1628640"/>
            <a:ext cx="3166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4240" y="1196640"/>
            <a:ext cx="8591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治疗：有解痉止痛、改善血液循环、消炎消肿、纠正腰椎错位和松解神经根粘连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关节松动技术：有解除肌肉痉挛、缓解疼痛、松解粘连、减轻或解除对神经根压迫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针灸治疗可缓解疼痛，促进神经根水肿和炎症的吸收和消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1280" y="1628280"/>
            <a:ext cx="7565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腿痛保健操：腰腿痛保健操宜在患者腰腿疼痛等症状缓解后开始练习，内容包括腹肌、腰背肌肉锻炼和腰椎活动度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00691"/>
          <p:cNvPicPr/>
          <p:nvPr/>
        </p:nvPicPr>
        <p:blipFill>
          <a:blip r:embed="rId1"/>
          <a:stretch/>
        </p:blipFill>
        <p:spPr>
          <a:xfrm>
            <a:off x="468360" y="105264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SC00692"/>
          <p:cNvPicPr/>
          <p:nvPr/>
        </p:nvPicPr>
        <p:blipFill>
          <a:blip r:embed="rId2"/>
          <a:stretch/>
        </p:blipFill>
        <p:spPr>
          <a:xfrm>
            <a:off x="4067280" y="1052640"/>
            <a:ext cx="410508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SC00693"/>
          <p:cNvPicPr/>
          <p:nvPr/>
        </p:nvPicPr>
        <p:blipFill>
          <a:blip r:embed="rId3"/>
          <a:stretch/>
        </p:blipFill>
        <p:spPr>
          <a:xfrm>
            <a:off x="539640" y="4005360"/>
            <a:ext cx="3098880" cy="224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SC00694"/>
          <p:cNvPicPr/>
          <p:nvPr/>
        </p:nvPicPr>
        <p:blipFill>
          <a:blip r:embed="rId4"/>
          <a:stretch/>
        </p:blipFill>
        <p:spPr>
          <a:xfrm>
            <a:off x="4067280" y="3789360"/>
            <a:ext cx="41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2133720"/>
            <a:ext cx="84661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手术治疗：单纯性腰椎间盘突出症的患者，经保守治疗无效后，可首选微创介入治疗。对于经规范保守治疗无效或治疗后症状明显加重、中央型突出、有马尾症状或有椎管狭窄征象等不适合微创手术者，可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生活、工作姿势和选择合适的床垫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治疗腰痛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保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背肌功能锻炼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腰椎间盘突出症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腰椎间盘突出症的主要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腰椎间盘突出症的康复评定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腰椎间盘突出症的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412640"/>
            <a:ext cx="777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间盘突出症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umbar disc herniation, 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是在椎间盘退变的基础上，受到相应损伤和应力作用所致，造成纤维环破裂，髓核组织突出（或脱出、膨出）刺激或压迫神经根所表现的一种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引起腰腿痛最常见的原因之一。本病好发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的青壮年，男性明显多于女性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突出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196640"/>
            <a:ext cx="8136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椎间盘的生理退变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岁即开始，在椎间盘本身退行性变的基础上，可以因一次急性腰部扭伤或长期反复劳损（青少年患病者多为较严重的急性外伤）导致本病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16000" y="39337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tuo"/>
          <p:cNvPicPr/>
          <p:nvPr/>
        </p:nvPicPr>
        <p:blipFill>
          <a:blip r:embed="rId1"/>
          <a:stretch/>
        </p:blipFill>
        <p:spPr>
          <a:xfrm>
            <a:off x="5292720" y="3716280"/>
            <a:ext cx="22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63V92W5D10SI1GP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052640"/>
            <a:ext cx="4657680" cy="371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5_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924280"/>
            <a:ext cx="3600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699920"/>
            <a:ext cx="84661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：临床主要表现为腰背痛，下肢放射性疼痛、麻木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部活动受限：腰部向各方向活动都会不同程度地受到影响，尤以前屈受限最明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神经功能障碍：可出现下肢肌力下降、感觉障碍和腱反射的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773000"/>
            <a:ext cx="7634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活动范围的评定：采用量角器对腰椎前屈、后伸、侧屈及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功能的评定 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 disability index, ODI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62828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DI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共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，包括：疼痛（疼痛程度、疼痛对睡眠的影响）、单项功能（提物、坐、站立、行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和个人综合功能（日常活动能力、性生活、社会活动和郊游）三大方面的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每个项目最低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，最高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；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的相应得分累加后，计算其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最高分合计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 5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的百分比，即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swestry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功能障碍指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得分越高说明患者功能障碍越严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1-1192_IMG"/>
          <p:cNvPicPr/>
          <p:nvPr/>
        </p:nvPicPr>
        <p:blipFill>
          <a:blip r:embed="rId1"/>
          <a:stretch/>
        </p:blipFill>
        <p:spPr>
          <a:xfrm>
            <a:off x="468360" y="1197000"/>
            <a:ext cx="4606920" cy="34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11-1195_IMG"/>
          <p:cNvPicPr/>
          <p:nvPr/>
        </p:nvPicPr>
        <p:blipFill>
          <a:blip r:embed="rId2"/>
          <a:stretch/>
        </p:blipFill>
        <p:spPr>
          <a:xfrm>
            <a:off x="4500720" y="2924280"/>
            <a:ext cx="4467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9:06:40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